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69884"/>
        <c:axId val="66738978"/>
      </c:barChart>
      <c:catAx>
        <c:axId val="15169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38978"/>
        <c:crosses val="autoZero"/>
        <c:auto val="1"/>
        <c:lblAlgn val="ctr"/>
        <c:lblOffset val="100"/>
        <c:noMultiLvlLbl val="0"/>
      </c:catAx>
      <c:valAx>
        <c:axId val="66738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69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965-95C4-4CD9-A1DE-A3F22739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7C5-B043-45B4-8F5D-71C769DE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335-F0DF-4332-8920-1916DDE6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DAE-B333-48A5-B3A7-0F44F7B3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3E7-4BAA-4235-8A2E-E7B2278A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71A-5D80-4205-8D97-1DE546A1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379-EC8B-4A58-9DF1-8021AF1B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6E7-835F-4C2F-8F06-7AA9EB33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403-2A8B-48F7-8D54-A431D80C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2DF-0D04-4D3A-89C3-C701EFBD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8DD-BA89-4907-BC3E-24CCC46A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D90-1480-40A2-ABD0-743DDC8B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D033A-26A5-46D4-BEE3-CF3DE43846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