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032316"/>
        <c:axId val="52743687"/>
      </c:barChart>
      <c:catAx>
        <c:axId val="180323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743687"/>
        <c:crosses val="autoZero"/>
        <c:auto val="1"/>
        <c:lblAlgn val="ctr"/>
        <c:lblOffset val="100"/>
        <c:noMultiLvlLbl val="0"/>
      </c:catAx>
      <c:valAx>
        <c:axId val="527436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0323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E202-68DB-42BB-AED4-597CAD1AC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BF44-F93D-49D3-8C99-6AB30AAD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4C23-214E-4005-9B18-DF4639778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CCAB-111C-4E26-A533-758616436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53A8-BE63-4AF5-B152-CDEB6E69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4EC0-596E-4639-BFB4-76B48260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2EDE-5DF6-4409-82C7-5ED9A447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EA5D-0239-4CF7-B9E6-B0F7C7B8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CE77-BB6B-4CDD-8677-4ACB6227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768F-B785-4E82-8927-F0EDEB93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E087-9E68-477C-BF7B-E28BA155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9D63-68F2-4CCB-BC6E-1531593A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D1B5A-9D72-4112-8DFA-F88A62DC87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