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7749"/>
        <c:axId val="90751336"/>
      </c:barChart>
      <c:catAx>
        <c:axId val="72907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51336"/>
        <c:crosses val="autoZero"/>
        <c:auto val="1"/>
        <c:lblAlgn val="ctr"/>
        <c:lblOffset val="100"/>
        <c:noMultiLvlLbl val="0"/>
      </c:catAx>
      <c:valAx>
        <c:axId val="90751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7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3B2-A4CB-4521-82E3-A5688FF8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C89-5C78-43E4-B379-EDC6B083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FC2-CF2E-4B3F-997D-9D058E71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84D-8C41-49F7-AE5B-80E87EB6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011-C22B-4A68-8FB6-F503C9A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3DB-9509-4615-86D4-2ECD869C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928-4511-4564-A0DD-538FC86D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3ED-A9C3-468B-9C63-F4AB4696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373-262A-4931-B27D-BD295F6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D02-5A84-46B8-816C-4DF4C78F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904-77C2-45D3-BFA8-D1549E7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58C-7F29-40F2-A9E9-60EB8C85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93892-A744-45C2-A9F4-5E9BF5975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