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50000"/>
        <c:axId val="34300217"/>
      </c:barChart>
      <c:catAx>
        <c:axId val="62850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00217"/>
        <c:crosses val="autoZero"/>
        <c:auto val="1"/>
        <c:lblAlgn val="ctr"/>
        <c:lblOffset val="100"/>
        <c:noMultiLvlLbl val="0"/>
      </c:catAx>
      <c:valAx>
        <c:axId val="343002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50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8C78-F9C4-4516-B715-08AED646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B0E-E30D-4C8D-9091-C1347DB3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F7A-46C5-4CA4-88F0-C0CC5317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5588-A8CA-46B5-9CF6-03844F96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F32F-0C90-47E6-8E3C-AE8E2444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C58A-A442-4A4A-BE4A-A66068D6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5E3-EDA0-4582-98A3-A8F4D25F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29DA-A659-4DBF-A219-0C46F133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2E0-3D94-44FA-A852-BA6CD6E7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AB3-7E4E-4092-81ED-AE1F3F77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E7A1-ADB2-42E3-9D39-97CF6713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B10-44BC-4F7F-9966-2C1866B5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0C602-AC23-4622-8DB8-3846FDE8E0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