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91700"/>
        <c:axId val="38940805"/>
      </c:barChart>
      <c:catAx>
        <c:axId val="51591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40805"/>
        <c:crosses val="autoZero"/>
        <c:auto val="1"/>
        <c:lblAlgn val="ctr"/>
        <c:lblOffset val="100"/>
        <c:noMultiLvlLbl val="0"/>
      </c:catAx>
      <c:valAx>
        <c:axId val="38940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91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BF5-5E9D-436F-9C1E-A2F3C823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81A-3177-4C29-B9AD-22E21BC1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2FC-B47A-4B3D-B18C-E4D70647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FBC-53AB-48E4-8F1B-14D92AEB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0BE-0B8D-4254-9A89-0059B74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19E-D498-404A-A47B-56EA435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DFC-0ECA-4979-B631-317EB08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700-88D5-44AC-80D9-485474A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25F-2189-4D92-BBE6-897DC2C2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9CF-B77E-4608-B335-F8CE3BB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8D4-8832-4FC8-AD7D-1529D69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762-6B91-45A7-83D2-B2466C8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0CAF0-FDFE-459C-922C-C6733E2EF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