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11546"/>
        <c:axId val="34236469"/>
      </c:barChart>
      <c:catAx>
        <c:axId val="97411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36469"/>
        <c:crosses val="autoZero"/>
        <c:auto val="1"/>
        <c:lblAlgn val="ctr"/>
        <c:lblOffset val="100"/>
        <c:noMultiLvlLbl val="0"/>
      </c:catAx>
      <c:valAx>
        <c:axId val="34236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11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729-2E79-4CF3-958C-FF630E82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D7C-E566-4E76-BD9D-E17AD91A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F8D-DEBB-458F-B1E5-6C07FE60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4FF-E8FD-462E-8097-63EE867D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0C6-4BE2-4EDF-9FBD-A0E08102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C6A-8555-4F20-8565-8EF2F42B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72E-E59C-40FD-A21B-644594D7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81C-D9FA-4BD2-83DF-63937F92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74A-58BD-427C-B441-71AC139C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807-54E1-43A7-8C03-8C0AA9AE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4D0-6058-454A-A2F4-61F99BF5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D69-15AD-4D6B-A76C-6B3E261C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E56A1-680D-43DF-B96D-78EFB7704E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