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10438"/>
        <c:axId val="39861787"/>
      </c:barChart>
      <c:catAx>
        <c:axId val="797104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61787"/>
        <c:crosses val="autoZero"/>
        <c:auto val="1"/>
        <c:lblAlgn val="ctr"/>
        <c:lblOffset val="100"/>
        <c:noMultiLvlLbl val="0"/>
      </c:catAx>
      <c:valAx>
        <c:axId val="39861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104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3A7-5835-499C-BF7B-1DBFA081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DEC-CCD2-42D9-A7A9-A4B75FEE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0E6-57DB-45E6-AEC9-DE9E63B2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1CA-E235-4028-BA4C-63ADA5B4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645-BD87-4198-A019-7F822264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132-04E3-4240-9A0A-511CBB1C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22D-133F-470D-9E6D-480AEBBB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F55-E4BB-48CC-852C-1D7D74E0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417-BCE3-486B-83FE-599C5EF5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D0F-678D-4337-ADA8-06108E46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A58-DA7C-405F-AB6C-75B450A5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7DC-C52C-4D56-A283-ADC61E74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1933F-8BAE-41D0-8BB4-1C1BFB314D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