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90594"/>
        <c:axId val="77160281"/>
      </c:barChart>
      <c:catAx>
        <c:axId val="14190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60281"/>
        <c:crosses val="autoZero"/>
        <c:auto val="1"/>
        <c:lblAlgn val="ctr"/>
        <c:lblOffset val="100"/>
        <c:noMultiLvlLbl val="0"/>
      </c:catAx>
      <c:valAx>
        <c:axId val="77160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90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E08-CEE6-4C57-8838-CB2829AE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B83-F3F9-49A3-93ED-8E66799D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A14-FBA3-4ED4-8979-2403A285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0DA-E492-445F-BAA2-B24E7E70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33E-E771-4BD5-92D8-FCE8FB92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F8B-393A-4898-A973-E089DBA3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C71-AF7D-46EC-92CD-2B321A58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9923-AE10-48FE-B73B-265C02CA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AFA-640D-43D8-8C22-00CDC950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3A3-CB6B-4951-8EC4-194DFB80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751-7C6C-43E0-959C-54D91417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688-15CE-4F46-A415-53B41B26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0E66D-4928-4629-8DDA-3BFB5C6488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